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396-F36F-46EA-9A58-34187944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870-853F-4183-B6DF-A57A448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E5A-2111-4928-A9F5-08E90E9A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1DA-88DF-4077-8F2A-9E929507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E54-CD18-487E-BEB8-D13ACCD8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428-4220-494D-A456-8CEC4CC1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5E2-6134-4186-8BD6-71D10357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985-B936-43A2-B5F3-3B33F45C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1EB-5B0A-4CFF-B4BA-F65016C3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B80-0E89-4B69-8EC3-C9FD857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FCD-CD22-46B2-90DD-05B8680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7A8-2D6D-42D2-A86C-A3477DF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F782-23C2-43E1-B807-F439E6793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Calibri"/>
              </a:rPr>
              <a:t>How Much Water Is Used (in gallons)?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716760" y="2514600"/>
            <a:ext cx="778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aking a show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501280" y="2997360"/>
            <a:ext cx="41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5-5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78600" y="2558880"/>
            <a:ext cx="778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aking a bath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948400" y="299736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5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321840" y="2170080"/>
            <a:ext cx="8500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was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a small load of laundry i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a washing machin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2948400" y="299736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3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-485280" y="2170080"/>
            <a:ext cx="10178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brushing your teeth and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running the water continuousl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851200" y="2997360"/>
            <a:ext cx="34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-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237240" y="2514600"/>
            <a:ext cx="866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of water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o flush a toile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2851200" y="2997360"/>
            <a:ext cx="34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5-7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192680" y="2558880"/>
            <a:ext cx="674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run a dishwash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1280" y="2997360"/>
            <a:ext cx="41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15-2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321840" y="2612880"/>
            <a:ext cx="850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was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dishes by hand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948400" y="299736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203840" y="2558880"/>
            <a:ext cx="674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water a small law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948400" y="299736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3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9:41:16Z</dcterms:created>
  <dc:creator> </dc:creator>
  <dc:description/>
  <dc:language>en-US</dc:language>
  <cp:lastModifiedBy> </cp:lastModifiedBy>
  <dcterms:modified xsi:type="dcterms:W3CDTF">2010-10-15T19:41:38Z</dcterms:modified>
  <cp:revision>1</cp:revision>
  <dc:subject/>
  <dc:title>How Much Water Is Used (in gallons)?</dc:title>
</cp:coreProperties>
</file>